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D230B-FA5E-4DAC-B32F-4A2D37338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6328-6B36-4456-8407-CBF4A3645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CEA1C-72CD-447C-BA42-45A149DCF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8BDA8-BC3A-431D-AA0A-FCB143AD3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188B-91DF-4736-A845-1B96D8801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DAE53-2EF3-43AF-B268-4449E61F6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3B332-AE40-454C-976C-CE2C4AC6E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F5F42-67E5-4B37-B7A2-FD5BF67E3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7A10-A96F-471D-95F5-5F8586F73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12F42-4E18-4582-B3A0-3257E84EC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3FFFC-46C9-429F-B841-61CBF5120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40A3-9C5C-4D51-AC57-34DBAFECE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AE4E-214D-4616-9452-DEF707FB9A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4473000"/>
            <a:ext cx="6448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4" name="" descr="Gateway of India"/>
          <p:cNvPicPr/>
          <p:nvPr/>
        </p:nvPicPr>
        <p:blipFill>
          <a:blip r:embed="rId1"/>
          <a:stretch/>
        </p:blipFill>
        <p:spPr>
          <a:xfrm>
            <a:off x="457200" y="304920"/>
            <a:ext cx="769608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way of In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teway of India is a huge archway on the water's edge at Apollo Bunder. This famous monument was built to commemorate the visit of the first ever British Monarch, King George V and Queen Mary in 1911. The Gateway was built by the British and designed by the architect George Wittet. The first stone was laid by the then Governor of Bombay on March 31st, 1913. The Gate was formally opened in 1924. It is a 26m high structure, complete with four turrets and intricate latticework carved into the yellow basalt sto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teway is a combination of European and Indian ceremonial architecture. The last British troops marched out through this gate when India became independent in 1947.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03:02:15Z</dcterms:created>
  <dc:creator>pc</dc:creator>
  <dc:description/>
  <dc:language>en-US</dc:language>
  <cp:lastModifiedBy>pc</cp:lastModifiedBy>
  <dcterms:modified xsi:type="dcterms:W3CDTF">2010-06-17T03:02:30Z</dcterms:modified>
  <cp:revision>1</cp:revision>
  <dc:subject/>
  <dc:title>Slide 1</dc:title>
</cp:coreProperties>
</file>